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whoosh.wav" ContentType="audio/x-wav"/>
  <Override PartName="/ppt/media/image2.png" ContentType="image/png"/>
  <Override PartName="/ppt/media/image9.jpeg" ContentType="image/jpeg"/>
  <Override PartName="/ppt/media/camera.wav" ContentType="audio/x-wav"/>
  <Override PartName="/ppt/media/image6.png" ContentType="image/png"/>
  <Override PartName="/ppt/media/image7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0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5AA62-19ED-4971-9488-5A6DD65E86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CA62E-D43B-4F62-BAD2-7048066F9D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6927-2977-4DD5-ACD8-85F4BBE46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8447-A63A-416A-B86B-FE7A32126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36F9-6CB8-4DE3-B341-8ECCAAE45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FD22-04C8-4F4F-BACE-8C142D1AC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AA43-5377-460C-A356-D5D669B69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EB49-97BE-4EC9-920C-A7F40FCA9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7720-DB59-4194-AFFB-2D5672E9A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B35F-44B6-41D4-B1C4-96348FDB7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DD64-D077-4425-9D1C-D4885E72C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AB04-719F-4ABF-BBDB-3F2AF320E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A091-6629-43F3-9E53-C019121DB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D6A2-519A-4549-A9F3-4D1E8961E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6F827-092E-46B9-B375-4DE1D7E5E0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hoosh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12"/>
          <p:cNvSpPr/>
          <p:nvPr/>
        </p:nvSpPr>
        <p:spPr>
          <a:xfrm>
            <a:off x="5217120" y="2209680"/>
            <a:ext cx="340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Where does she wor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4718880" y="1219320"/>
            <a:ext cx="29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rket"/>
              </a:rPr>
              <a:t>Where is she fro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1752480" y="304920"/>
            <a:ext cx="5943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D Note Pad"/>
              </a:rPr>
              <a:t>How long has she been a chef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791320" y="2971800"/>
            <a:ext cx="1904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crap Brother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Scrap Brother"/>
              </a:rPr>
              <a:t>Is she creativ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4952880" y="4343400"/>
            <a:ext cx="2082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bel Bk BT"/>
              </a:rPr>
              <a:t>Is she smar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4191120" y="563868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D Artsy"/>
              </a:rPr>
              <a:t>Do you think she’s a good employe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19" descr="http://www.pinoyhalo.com/wp-content/uploads/2010/01/cristeta_comerford.jpg"/>
          <p:cNvPicPr/>
          <p:nvPr/>
        </p:nvPicPr>
        <p:blipFill>
          <a:blip r:embed="rId1"/>
          <a:stretch/>
        </p:blipFill>
        <p:spPr>
          <a:xfrm>
            <a:off x="228600" y="2209680"/>
            <a:ext cx="4398840" cy="3200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Object 2"/>
          <p:cNvGraphicFramePr/>
          <p:nvPr/>
        </p:nvGraphicFramePr>
        <p:xfrm>
          <a:off x="2286000" y="380880"/>
          <a:ext cx="4340160" cy="594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380880"/>
                    <a:ext cx="4340160" cy="5943600"/>
                  </a:xfrm>
                  <a:prstGeom prst="rect">
                    <a:avLst/>
                  </a:prstGeom>
                  <a:ln w="7632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Object 6"/>
          <p:cNvGraphicFramePr/>
          <p:nvPr/>
        </p:nvGraphicFramePr>
        <p:xfrm>
          <a:off x="2286000" y="380880"/>
          <a:ext cx="4432320" cy="609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380880"/>
                    <a:ext cx="4432320" cy="6096240"/>
                  </a:xfrm>
                  <a:prstGeom prst="rect">
                    <a:avLst/>
                  </a:prstGeom>
                  <a:ln w="7632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765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Object 6"/>
          <p:cNvGraphicFramePr/>
          <p:nvPr/>
        </p:nvGraphicFramePr>
        <p:xfrm>
          <a:off x="2362320" y="228600"/>
          <a:ext cx="4430520" cy="640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228600"/>
                    <a:ext cx="4430520" cy="6400800"/>
                  </a:xfrm>
                  <a:prstGeom prst="rect">
                    <a:avLst/>
                  </a:prstGeom>
                  <a:ln w="7632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Object 7"/>
          <p:cNvGraphicFramePr/>
          <p:nvPr/>
        </p:nvGraphicFramePr>
        <p:xfrm>
          <a:off x="1828800" y="304920"/>
          <a:ext cx="5478480" cy="632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304920"/>
                    <a:ext cx="5478480" cy="63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Object 4"/>
          <p:cNvGraphicFramePr/>
          <p:nvPr/>
        </p:nvGraphicFramePr>
        <p:xfrm>
          <a:off x="762120" y="228600"/>
          <a:ext cx="7791480" cy="636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28600"/>
                    <a:ext cx="7791480" cy="636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j0384682"/>
          <p:cNvPicPr/>
          <p:nvPr/>
        </p:nvPicPr>
        <p:blipFill>
          <a:blip r:embed="rId1"/>
          <a:stretch/>
        </p:blipFill>
        <p:spPr>
          <a:xfrm>
            <a:off x="1295280" y="1447920"/>
            <a:ext cx="6858000" cy="4997160"/>
          </a:xfrm>
          <a:prstGeom prst="rect">
            <a:avLst/>
          </a:prstGeom>
          <a:ln w="0">
            <a:noFill/>
          </a:ln>
        </p:spPr>
      </p:pic>
      <p:sp>
        <p:nvSpPr>
          <p:cNvPr id="66" name="Text Box 6"/>
          <p:cNvSpPr/>
          <p:nvPr/>
        </p:nvSpPr>
        <p:spPr>
          <a:xfrm>
            <a:off x="1066680" y="380880"/>
            <a:ext cx="7239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LD Elementary"/>
              </a:rPr>
              <a:t>    </a:t>
            </a:r>
            <a:r>
              <a:rPr b="0" lang="en-US" sz="6600" spc="-1" strike="noStrike">
                <a:solidFill>
                  <a:srgbClr val="000000"/>
                </a:solidFill>
                <a:latin typeface="LD Elementary"/>
              </a:rPr>
              <a:t>What is it?</a:t>
            </a:r>
            <a:r>
              <a:rPr b="0" lang="en-US" sz="2400" spc="-1" strike="noStrike">
                <a:solidFill>
                  <a:srgbClr val="000000"/>
                </a:solidFill>
                <a:latin typeface="Tabith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LD Elementary"/>
              </a:rPr>
              <a:t>What is it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6" descr="Chicken Not-Pie"/>
          <p:cNvPicPr/>
          <p:nvPr/>
        </p:nvPicPr>
        <p:blipFill>
          <a:blip r:embed="rId1"/>
          <a:stretch/>
        </p:blipFill>
        <p:spPr>
          <a:xfrm>
            <a:off x="2590920" y="1752480"/>
            <a:ext cx="3840120" cy="3200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LD Elementary"/>
              </a:rPr>
              <a:t>What is it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5" descr="Colorful Cupcakes"/>
          <p:cNvPicPr/>
          <p:nvPr/>
        </p:nvPicPr>
        <p:blipFill>
          <a:blip r:embed="rId1"/>
          <a:stretch/>
        </p:blipFill>
        <p:spPr>
          <a:xfrm>
            <a:off x="762120" y="1905120"/>
            <a:ext cx="2950920" cy="3962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7" descr="April Fools' Recipe Prank: Mock Sushi"/>
          <p:cNvPicPr/>
          <p:nvPr/>
        </p:nvPicPr>
        <p:blipFill>
          <a:blip r:embed="rId2"/>
          <a:stretch/>
        </p:blipFill>
        <p:spPr>
          <a:xfrm>
            <a:off x="4343400" y="2286000"/>
            <a:ext cx="4181400" cy="3276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7T20:57:04Z</dcterms:created>
  <dc:creator>Staff</dc:creator>
  <dc:description/>
  <dc:language>en-US</dc:language>
  <cp:lastModifiedBy>Teacher</cp:lastModifiedBy>
  <dcterms:modified xsi:type="dcterms:W3CDTF">2011-02-09T02:12:37Z</dcterms:modified>
  <cp:revision>15</cp:revision>
  <dc:subject/>
  <dc:title>PowerPoint Presentation</dc:title>
</cp:coreProperties>
</file>